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85A-8797-4266-9ADF-EFEB2C02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30D-11C2-4FAE-B51C-A7394616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95E-1AFF-4A5E-97B1-D0CF8BA6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0CB-D62A-4226-9EC0-7A6F889E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A11-75BB-4AE7-8A6B-D694564A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48E-A7F2-4AAE-A248-1F106AB8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9F0-0B80-4DA3-B75C-61102AAC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C076-CBE1-4956-A961-738AB743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419-08CD-4A15-8B24-CBB193A1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6F0-13AB-48F3-B5AE-1F1E029D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849-DC14-4A72-AEA5-158FDA7E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EC8-EB31-473D-8A38-9F88823A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4AAB-0F28-4F80-BADD-52E6766E7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 llamo ________ Clase 6NH (602)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a fecha es el 13 de sept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opósito # 1: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hablamos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z una lista de los países que hablan españ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6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1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2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7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2)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3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8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3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4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9)  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4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5)             10)           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15)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merica del Norte, Central y el Caribe Hispano-habl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320840"/>
            <a:ext cx="9144000" cy="5537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1143000" y="3733920"/>
            <a:ext cx="838080" cy="990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048120" y="4952880"/>
            <a:ext cx="1295280" cy="228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885840" y="5334120"/>
            <a:ext cx="76212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723920" y="3276720"/>
            <a:ext cx="83844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105160" y="4648320"/>
            <a:ext cx="152280" cy="380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333760" y="5181480"/>
            <a:ext cx="68580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648320" y="6095880"/>
            <a:ext cx="76176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171840" y="5867280"/>
            <a:ext cx="76212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43800" y="28954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4572000"/>
            <a:ext cx="0" cy="380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9528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México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5029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Puerto Rico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048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Cub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5181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Guatemal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5638680"/>
            <a:ext cx="99072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Panamá 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4267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Honduras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6553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Costa Ric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4876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Nicaragua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214956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Republica Domini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58672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0000"/>
                </a:solidFill>
                <a:uFillTx/>
                <a:latin typeface="Verdana"/>
              </a:rPr>
              <a:t>El Salvador</a:t>
            </a:r>
            <a:r>
              <a:rPr b="1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89456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1326600">
            <a:off x="4522320" y="1531440"/>
            <a:ext cx="2590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563868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3886200"/>
            <a:ext cx="2590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615000">
            <a:off x="1523520" y="19494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5257800"/>
            <a:ext cx="119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78200" y="1676520"/>
            <a:ext cx="641520" cy="24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3733920"/>
            <a:ext cx="641520" cy="24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92400" y="2041560"/>
            <a:ext cx="641520" cy="244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97520" y="3184560"/>
            <a:ext cx="641160" cy="244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438280"/>
            <a:ext cx="641520" cy="398520"/>
          </a:xfrm>
          <a:prstGeom prst="rect">
            <a:avLst/>
          </a:prstGeom>
          <a:solidFill>
            <a:srgbClr val="386a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4520" y="4937040"/>
            <a:ext cx="641160" cy="244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971800"/>
            <a:ext cx="488880" cy="244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33000">
            <a:off x="4495680" y="4281120"/>
            <a:ext cx="457200" cy="214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096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133360" y="25909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362320" y="34290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88620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819520" y="441972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5943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5181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4197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99"/>
                </a:solidFill>
                <a:latin typeface="Arial"/>
              </a:rPr>
              <a:t>America del 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8520" y="182880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olo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6480" y="15238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46160" y="39625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oli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9080" y="50292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ara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63800" y="52578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Uru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7160" y="60199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39320" y="42670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38280" y="3429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er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1160" y="24224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cu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219560" y="990720"/>
            <a:ext cx="4848120" cy="5438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057400" y="3809880"/>
            <a:ext cx="2209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4191120"/>
            <a:ext cx="335268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62520" y="4267080"/>
            <a:ext cx="1981080" cy="1611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5181120" y="3657600"/>
            <a:ext cx="1219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81320" y="22824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3200" y="5715000"/>
            <a:ext cx="2343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uinea Ecua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105520" y="83772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38680" y="837720"/>
            <a:ext cx="5335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960" y="533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640" y="533520"/>
            <a:ext cx="9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l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62120" y="914400"/>
            <a:ext cx="2971800" cy="2854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685440" y="3124080"/>
            <a:ext cx="114300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213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3720" y="4952880"/>
            <a:ext cx="1086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El origen del españ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español es una combinación d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atí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árab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¿Por qué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a Real Academia de la Lengua Español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 una sociedad de intelectuales que decide las reglas del idioma españ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36939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be las capitales de los 21 paises hispano-habl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class contract sig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1-inch soft cover b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27:04Z</dcterms:created>
  <dc:creator>Helen Zumaeta</dc:creator>
  <dc:description/>
  <dc:language>en-US</dc:language>
  <cp:lastModifiedBy>Helen Zumaeta</cp:lastModifiedBy>
  <dcterms:modified xsi:type="dcterms:W3CDTF">2012-09-13T13:38:39Z</dcterms:modified>
  <cp:revision>8</cp:revision>
  <dc:subject/>
  <dc:title>America del norte, central y el Caribe hispano</dc:title>
</cp:coreProperties>
</file>